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BD5-846C-4614-851B-396F62F9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DA5-9EAD-48DC-8D87-66204703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328-1E56-4081-8854-306FB7FE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D7A-431E-4398-B86B-F5B57157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033-FA07-45C3-BBDD-20D8DE83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E0E6-EF60-4C3C-8EA2-94CA4620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88A-CD2A-4ED4-9AFE-A1BF8356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C63-9A74-44FE-B530-A944753D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480-5EBB-468B-9BF8-BF4BE488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9F4-1A16-40D1-8F61-415067FA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36F9-42AB-4478-A529-2D2FD674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859-6161-45F3-B41A-6EA4FFC4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79c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79c8"/>
                </a:solidFill>
                <a:latin typeface="Arial"/>
              </a:rPr>
              <a:t>5-</a:t>
            </a:r>
            <a:fld id="{DAD331CE-BA6D-4674-A17B-1C34C4CE6907}" type="slidenum">
              <a:rPr b="0" lang="en-US" sz="1400" spc="-1" strike="noStrike">
                <a:solidFill>
                  <a:srgbClr val="0479c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127080">
            <a:solidFill>
              <a:srgbClr val="a63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79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lmylifeforsale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urton.com/gear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07240" y="2514600"/>
            <a:ext cx="2070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The Sel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990720"/>
            <a:ext cx="3467160" cy="4600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Looking-Glass Self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aking the role of the other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an vary depending on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se perspective we are 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curate our predictions are of their evaluations of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fulfilling prophec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3AA-2D8D-4E7C-A838-78693D82B0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-Consciousnes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wareness of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ublic self-consciousnes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monitoring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vs. low self-mon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287-22CB-4BFB-950C-F50BB6DF57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nsumption and Self-Concep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Identity marketing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ok,” baby boy Iuma, Harley Davidson tat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roduct consumption as definition of the self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63055"/>
                </a:solidFill>
                <a:latin typeface="Arial"/>
              </a:rPr>
              <a:t>Discussion: Construct a “consumption biography” of a friend, family member, or classmate.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ke a list of his/her most favorite possessions, and see if you or others can describe this person’s personality just from the information provided by this catalo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95F-2127-4114-8CA3-403A616698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You Are What You Consum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ocial identity as individual consumption behaviou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m I now?”…to some extent, your possess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ference of personality based on consumption patter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ttachment to product as it maintains 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ymbolic self-completion theor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2543-8420-4BBF-90EE-36938E25EA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/Product Congruenc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image congruence model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 matching of products and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self relevance vs. actual self rele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iscussion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people buy products because they are seen as similar to the self, or do they assume that these products must be similar because  they have bought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9CD-706B-4074-A06E-A789F0AAA6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Extended Self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External objects that we consider a part of u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what you drive and wear (sho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ese business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Levels of extended self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4724280"/>
            <a:ext cx="952560" cy="82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76" name=""/>
          <p:cNvSpPr/>
          <p:nvPr/>
        </p:nvSpPr>
        <p:spPr>
          <a:xfrm>
            <a:off x="3505320" y="5029200"/>
            <a:ext cx="31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MYLIFEFORSA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589-EEB4-4129-9B50-CDAAB021FB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x Ro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xual identity is very important to the consumer’s 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ender differences in consumption situatio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food preferences of men vs.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CBE-334C-4F42-9ECB-17AEBF604F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ender and Socializat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dvertising reinforces gender expectation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Gender roles vary by culture/nation…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 change/evolve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gentic vs. communal goal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Mattel’s building toy called 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3505320"/>
            <a:ext cx="571500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79E-8BA0-45A7-AF68-6B9707392C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ender vs. Sexual Identi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Gender role identity: body and mind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Biological gender vs. sex-typed trait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Masculinity and femininity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Many products are sex-typed…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take on masculine and feminine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ess tele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v’s colour- coded di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49568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112-1CEB-4F28-A632-050F59F49D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Androgyn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ossession of both masculine and feminine trait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ogynous people function well in social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ex-role orientation and responses to marketing stimuli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s more sensitive to pieces of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 consider overall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ex-typed peopl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Non-traditional male” (NTM) tendencie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B7AD-A50F-46D5-8E16-3B784C784B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erspectives on the Self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We buy products to highlight/hide aspects of the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oes the self exist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self vs. independent/unique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F14-0FF2-4674-98BD-EFF281150A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emale Sex Ro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w managerial class of wome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forced marketers to reexamin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ing goods, car accessories, and electronics products for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01640" y="5181480"/>
            <a:ext cx="6005520" cy="825480"/>
            <a:chOff x="1601640" y="5181480"/>
            <a:chExt cx="6005520" cy="825480"/>
          </a:xfrm>
        </p:grpSpPr>
        <p:pic>
          <p:nvPicPr>
            <p:cNvPr id="9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654600" y="5181480"/>
              <a:ext cx="95256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91" name=""/>
            <p:cNvSpPr/>
            <p:nvPr/>
          </p:nvSpPr>
          <p:spPr>
            <a:xfrm>
              <a:off x="1601640" y="5500800"/>
              <a:ext cx="500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URTON SNOWBOARD GEAR FOR WOM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6A67-8FA9-4478-A92A-5FC4028228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ale Sex Ro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sculinis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odels of masculin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dw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-of-action h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isandr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78A-BAB0-49EC-ADAE-CD960140FB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ale Sex Role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rooming products for me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sex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Beck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er Eye for the Straight G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umers/urban influent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445-49AB-4645-B04E-F4C43E46EC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The “metrosexual” is a big buzzword in marketing, but is it real or just media hype?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Do you see men in your age group changing their ideas about acceptable interests for males (e.g., home design, cooking, etc.)?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4762800" cy="339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8207-B98E-4D93-9CA9-FA9704C8A3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LBT Consumer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396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mons study: compared to heterosexual markets, readers of gay publications are more likely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 professional j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wn a vacation h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wn a notebook comp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4724640" cy="359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BEE5-6930-4BFB-926A-DCAE377EE8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ody Imag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 consumer’s subjective evaluation of his/her physical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ody Cathexi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014-D5E8-478A-849F-E630C98337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deals of Beau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xemplar of appearanc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What is beautiful is good” stereotyp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avourable physical featur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active 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health and y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/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inine curves/hourglass body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” mal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85F-ACAC-4FB3-B07D-2202890230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Western Ideal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kin colour and eye shape = status, sophistication, and social desirabil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ess powerful cultures adopt standards of beauty in dominant cultur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E91-279A-483E-84C1-3A441CE44C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ow prevalent is the Western ideal of beauty among your peers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ow do you see this ideal evolving now (if at all)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3F7-CC4C-4F5E-93A2-CB3209C4EE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deals of Beauty Over Tim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pecific “looks”/ideals of beau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1800s: delicate/”looking ill” appearance, 18-inch waistline (use of cors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0s: voluptuous, lusty 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economy: mature features vs. good economy: babyish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0s: “waif” 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women: high heels, body waxing, eyelifts, lipos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0DDE-1498-44AE-8D35-285FAD2387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-Concep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e beliefs a person holds about his/her own attributes, and how he/she evaluates these qualiti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complex structure of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dimensions: content, positivity, intensity, stability over time, and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FB0-D02C-409E-8597-A35D7355FF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Ideals of Beauty Over Time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Media and marketing communicate standards of beauty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s America Page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lus-sized apparel market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trongly masculine, muscled body for men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267440" cy="319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22C-F68D-4AE4-ACD7-63D5DC0845E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Working on the Bod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s/services promise to alter physical self/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attism (worldwide)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orldwide obesity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Discussion: Should fast-food restaurants be liable if customers sue them for contributing to their obesity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DEB-FB09-4244-8DA3-2495719753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ody Image Distortion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3055"/>
                </a:solidFill>
                <a:latin typeface="Arial"/>
              </a:rPr>
              <a:t>To some, body quality reflects self-worth (particularly among women)</a:t>
            </a: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3055"/>
                </a:solidFill>
                <a:latin typeface="Arial"/>
              </a:rPr>
              <a:t>Distorted body image is linked to eating disorders among females</a:t>
            </a: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9880" y="1751040"/>
            <a:ext cx="4800600" cy="335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937-EBD0-40EB-9288-AB4BD38E44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smetic Surger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hanging a poor body image or to enhance appearanc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account for 20% of surg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reast Au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that breast size = sex app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31E-2AB7-4A60-8B78-7AE178CEE1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ody Decoration and Mutilat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3055"/>
                </a:solidFill>
                <a:latin typeface="Arial"/>
              </a:rPr>
              <a:t>Decorating the self…</a:t>
            </a: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s group members from non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the individual in the social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sense of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lace the person in a gender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hance gender-role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dicate desired social con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dicate high status or 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267080" cy="30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D9D-E3F7-4830-B0B0-603B742698A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79c8"/>
                </a:solidFill>
                <a:latin typeface="Arial"/>
              </a:rPr>
              <a:t>Body Decoration and Mutilation (Cont’d)</a:t>
            </a:r>
            <a:endParaRPr b="0" lang="en-US" sz="38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attoos and body piercing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associated with social out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 fashion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33F-87A4-43FA-BB7F-BB2992369FF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-Esteem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e positivity of a person’s 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vs. high self-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ance by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ers: attractive models using their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953-25B5-401F-8E0D-593CA7A5EC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Self-esteem advertising: products provide remedy to low self-estee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nk about/locate examples of self-esteem adverti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aluate the probable effectiveness of these appeals. Is it true that “flattery gets you everywher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BAF8-32C9-4F77-856F-70EB8127FF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Real and Ideal Selv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deal self vs. actual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influences self-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self is molded by consumer’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elp us reach ideal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consistent with actual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AE6-FC30-4176-8AE8-916DEDCE39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antas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ny successful products appeal to consumers’ fantasies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ing us to “try on” interesting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 websites = projection of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512-25BD-459E-9EB9-F5B0CA5010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ultiple Selv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ach of us has many selves/rol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-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id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ers pitch products needed to facilitate an active role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1A1-5CD4-4BCE-9585-814A364515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ymbolic Interactionism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elationships with others play a large part in forming the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ic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mea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ossessions define “who we a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fulfilling prophe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ng the way we assume others expect of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A88-7266-4A4F-8AF1-54D906CD55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0:53:29Z</dcterms:created>
  <dc:creator>mkcool</dc:creator>
  <dc:description/>
  <dc:language>en-US</dc:language>
  <cp:lastModifiedBy>Pearson Canada</cp:lastModifiedBy>
  <dcterms:modified xsi:type="dcterms:W3CDTF">2007-05-16T17:36:48Z</dcterms:modified>
  <cp:revision>1153</cp:revision>
  <dc:subject/>
  <dc:title>Consumers Rule</dc:title>
</cp:coreProperties>
</file>